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401-4C69-4BE8-AEE8-3C1B75B6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042-5F70-4CFD-B0D0-F8068FDB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364-0D59-46FF-A5AB-FA3F379D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24A-81DC-4731-9366-EF583094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2188-52B7-4116-A442-01DA25E9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2F47-F592-4531-A054-B31C245B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7A29-37D2-492D-9C35-9E66A3D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C80F-3E19-42F9-A9E2-80C7567E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D637-92FD-42A6-9707-55335DA4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A27D-F65C-4367-94BC-54DBC99D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7498-042D-48DA-BEDC-FFF7439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9D7-FEBF-4395-A4FB-680B0D69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1307-2424-4834-8F6D-D6D00EC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A5E7-0239-4965-9F9E-9C4A798F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0A5B-7005-437B-BE2A-C0E98ECF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40AB-F59A-4577-A356-279211AC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54FC-9C91-4D97-8458-7CF3EB1E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34F8-E421-4BC2-9B62-991B85CE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6413-DB51-44F0-BAC7-CC2A117C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B579-9AC4-49F7-875F-4F723515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6317-3A9F-4C7D-9C48-D6B8C1F5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BB36-E8D9-41B1-BD67-D1C5FCB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E5D-5B53-4152-A5E2-B356E113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8E02-5765-4AD4-8F7D-329D60C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4721-4299-4351-9436-1C6DB95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CF7F-6E00-4DD9-919E-FE3A9326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29C8-13A0-4B84-B054-34077BD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05B0-F8FA-43AF-A6D0-00C51A5B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92DD-A167-4451-A7E0-8C0043A3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20F2-5614-47DA-BE4D-F83450B6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A7EF0-4231-48D4-8F65-10CB7C23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6ABFA-7E43-46E7-83B2-5A88E6A0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C2418-30C7-4E2D-81BE-20B8E9E1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17A-0CFE-4FB5-A090-8963D288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BF9DF-188C-4EBE-88BE-5A1D4EEF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F2519-53C9-4751-AB35-BB13774D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A0961-435C-42B5-BFE8-21F071A7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82E0B-C149-41F2-999B-4E29F288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98276-FFD1-415E-AE03-ABAA5ED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0DE5F-9042-4DD5-A969-D7867DE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3D479-81D2-42D8-86E4-A9951D94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6DFFE-FCAA-4341-AEE5-EE50A02F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FDC02-E937-4E5F-AC03-01721748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3327-953C-4B58-B420-F429107D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F9C-24E9-4CC6-8E70-C4D8EBE3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720AB-820F-42D5-A2C2-1D9D66DA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9AD8-DE04-42EC-8C6E-93D0E913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8342-FA36-412F-AA81-61E9A185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EB664-F1B5-4002-947D-0012ACA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EDEC0-7137-448A-9665-EC87CC0B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B9E3-FB63-4AE5-8E31-31D05A0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8742E-B6D1-4F0E-8F88-480FCAD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EC272-355D-4D5E-986D-39B1F5F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1BD5A-2C2A-40D2-A871-11D6562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40705-35D8-4163-A9F9-136B26EC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228-A2A4-43DE-88A4-C92BF54B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D9CD3-EC42-4854-B678-F23A1810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5650-C775-42D2-AA7D-326F786B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C1EB-C62D-45D8-9264-FC45C4BB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C475A-92AE-4511-9052-11DF3ED5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0163-BC6E-4897-B0EC-C70F6C4E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347D-6D4B-4974-9981-C868899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8C5E-06F0-4807-8EF2-277C98F4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8A723-40A4-4C25-B4D4-D94B836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0F12-58AE-425B-BEF5-6CC6E94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B22F-B886-4850-93FD-90AFC9D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EA9-BC3B-4A46-A0A6-0673BC20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7D30-9809-40BF-9127-6558F4CB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C2DE2-2216-4594-9A4D-0CAC8758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25A6-6475-4326-B624-66E2849F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DC3-F017-4FA2-AA2F-F30160E2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05E-AAD8-456A-BF94-9EA84BF1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C43-23A5-418A-882C-16BE02355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FEB6-ED75-45F1-8338-1574A46BF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56E6-092B-4E5E-B903-F2EC08D12BF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1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2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F8F-CAD2-44E7-9719-B098D11BE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D88D-DDC5-4140-8AD2-63A4C7E1A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7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7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8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8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6062-B1C3-4B3E-B573-39B1A1C7D5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photoclub.by/images/main/2480_main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fotku.ru/img--i-67-w-640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Monotype Corsiva"/>
              </a:rPr>
              <a:t>Цена нашей жизни…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859280" y="4581000"/>
            <a:ext cx="3168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76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7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ванов С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7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тров Р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7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идорова Е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059280" y="4437000"/>
            <a:ext cx="5905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ыполнили: ученики 10 А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Corsiva"/>
              </a:rPr>
              <a:t>Вопрос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95280" y="2421000"/>
            <a:ext cx="806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Что подсказывает нам природа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Цели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знакомиться с методами исследования загрязненного возду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ыбор доступной методики изу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ыявить зависимость между загрязнением атмосферы и изменением состояния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нализ результ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Измерение с помощью прибор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6912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ибор Кротова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змерение концентрации вредных веществ  в воздухе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ндикаторными трубкам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с помощью газоанализатора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УГ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labarotory-2"/>
          <p:cNvPicPr/>
          <p:nvPr/>
        </p:nvPicPr>
        <p:blipFill>
          <a:blip r:embed="rId1"/>
          <a:stretch/>
        </p:blipFill>
        <p:spPr>
          <a:xfrm>
            <a:off x="182520" y="3941640"/>
            <a:ext cx="3097080" cy="2217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9"/>
          <p:cNvPicPr/>
          <p:nvPr/>
        </p:nvPicPr>
        <p:blipFill>
          <a:blip r:embed="rId2"/>
          <a:stretch/>
        </p:blipFill>
        <p:spPr>
          <a:xfrm>
            <a:off x="6012000" y="2565360"/>
            <a:ext cx="2492280" cy="1836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9"/>
          <p:cNvSpPr/>
          <p:nvPr/>
        </p:nvSpPr>
        <p:spPr>
          <a:xfrm>
            <a:off x="3348000" y="4221000"/>
            <a:ext cx="579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равиметрическое определение пыли  в воздухе с помощью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эксикатора, аспиратора, филь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Организация постов наблю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5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стом наблюдения является отобранное место, на котором размещен павильон оборудованный соответствующими прибор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станавливаются посты наблюдения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575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тациона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575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аршру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575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ередви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0" descr="листик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562800" y="0"/>
            <a:ext cx="2581200" cy="3213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Monotype Corsiva"/>
              </a:rPr>
              <a:t>Визуальное наблю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50920" y="3860640"/>
            <a:ext cx="68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Объект наблюдения: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деревья, кустарники, лишайники, расположенные в районе промышленного предприяти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50920" y="1413000"/>
            <a:ext cx="54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Биоиндикация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- определение качества среды по состоянию живых организм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3" descr="Картинка 5 из 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197000"/>
            <a:ext cx="2663640" cy="1998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87096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Ход исследов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2" name="Picture 9" descr="Картинка 13 из 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14972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627280" y="836640"/>
            <a:ext cx="6265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538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Нами был выбран метод визуального исследования местности в районе промышленного предприятия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8200" indent="538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Наблюдение показало прямую зависимость между загрязнением атмосферы и сокращением численности определенных видов лишайников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 Особая чувствительность лишайников объясняется тем, что они не могут выделять поглощенные токсичные ве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133200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149400" y="3638520"/>
            <a:ext cx="52862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По мере приближения к источнику загрязнения слоевище лишайников становится толще и почти утрачивает плодовые тел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Comic Sans MS"/>
              </a:rPr>
              <a:t>По их видовому составу и встречаемости можно судить о степени загрязнения возду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8" descr="i[29]"/>
          <p:cNvPicPr/>
          <p:nvPr/>
        </p:nvPicPr>
        <p:blipFill>
          <a:blip r:embed="rId1"/>
          <a:stretch/>
        </p:blipFill>
        <p:spPr>
          <a:xfrm>
            <a:off x="6300720" y="4711680"/>
            <a:ext cx="2133720" cy="18129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94920" y="220464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99"/>
                </a:solidFill>
                <a:uFillTx/>
                <a:latin typeface="Comic Sans MS"/>
              </a:rPr>
              <a:t>Деревья и растительность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: в листе, стебле снижено содержание аминокислот, снижена прочность листа, лист повреждается в нем накапливаются токсичные вещества, замедляется рост и деревья теряют хвою. Самые чувствительные деревья хвойные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11" descr="i[20]"/>
          <p:cNvPicPr/>
          <p:nvPr/>
        </p:nvPicPr>
        <p:blipFill>
          <a:blip r:embed="rId2"/>
          <a:stretch/>
        </p:blipFill>
        <p:spPr>
          <a:xfrm>
            <a:off x="324000" y="260280"/>
            <a:ext cx="2160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полученного наблюдения можно сделать вывод о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ой зависимости между загрязнением атмосферы и изменением состояния окружающей сре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14:55Z</dcterms:created>
  <dc:creator>-</dc:creator>
  <dc:description/>
  <dc:language>en-US</dc:language>
  <cp:lastModifiedBy>Nabster</cp:lastModifiedBy>
  <dcterms:modified xsi:type="dcterms:W3CDTF">2010-06-02T20:00:28Z</dcterms:modified>
  <cp:revision>0</cp:revision>
  <dc:subject/>
  <dc:title>Цена нашей жизни…</dc:title>
</cp:coreProperties>
</file>